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5EFE-746B-49AA-B018-45400A042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5E28-A758-4908-84FE-0B09401E3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DF14-A60E-4976-997D-71C571B73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1D8B-36E9-4EFC-8276-9EC726441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2FD7-E1F8-4621-A2BD-1DEE05831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CEDD-4D32-4682-9F76-D2E25FA5B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B773-38D7-4EA6-B4CC-21F6806F2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FE44-BCB8-46F6-8152-C638FC5FE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B0B1-502C-45B4-9463-B90E043C2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4CE-4FB0-457A-B28B-35307E26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C448-0459-48BF-B617-5330C5AA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5B2-DF89-48B6-8825-2FB5143E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1AD-36C3-4E84-B3D3-BE3BA1E5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A490-F7A2-4358-B5C5-E0AF9FDD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A36B-A46D-440A-9671-1DCC9C58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06B6-54FA-40BD-9068-067E8D7F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2A4C-3AE4-422E-B35E-7B8BB916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33E4-E4B7-4718-A77E-23502ED0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1091-64CA-46F3-93D9-3952619B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851D-6E82-44ED-A4A5-181F0832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E3B2-7141-4339-8D16-E9B38735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1DD2-3AD0-4BD1-96EF-BB06333C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8605-7EC3-4277-983C-161070F2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0CC9-7761-4321-872A-469CA00C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1870-5C4D-40C6-BDBC-4039C59B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D858-F07B-40DC-A033-0493EB53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EDE00-8286-4586-9985-98A3B3E8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0E451-8219-4E2B-82F9-6CF8E5C4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5520B-97EE-4B06-9622-A7371D5E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96944-4567-47AD-84F9-34BE63D6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99BF2-BEB5-4A44-84D0-FBD7879F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A31-5590-41C8-968E-3269C31C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C9869-D925-4917-971A-03FF5897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C8A9B-339C-4238-AA74-4278A438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ACEA9-0405-4B2F-9EF7-FEAF7936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05534-3E4A-4C50-9A31-B580D669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F5233-09D4-4530-BEBB-7F3A0002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EA5CE-112B-42EA-9AAB-EAB4620E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D28DF-580E-4710-8B46-4027B1CB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2E2FB-4EB7-4D1B-8C68-90E3A01A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DF75B-5B8F-4780-99E4-9FADDD61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24D6E-2015-463E-AFFF-D04961A3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2295-3D6D-41BA-A19E-F5D1BFCB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61B2C-6D2C-424D-837C-22D043BB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44C48-EEEE-4372-B3F9-DEC223DC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A218D-C277-4B24-B291-EEE0DDFE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C92A1-52CB-48EA-B77E-D0B58BB4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F2A4C-AAF0-4294-BC17-768A6B6B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F42FD-62F4-4F07-9950-38AE7879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1C2FA-2E5C-418A-810D-6798EBFE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7331B-D1B4-4A94-A6E8-AF667C8E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0DE51-07FC-4AD1-AD83-94CC57EC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84421-D9BB-4373-8F0B-803B0B99F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2C75-298E-47F1-9029-BD01391C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8F5C3-A389-49F2-888D-B53B546B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D0B10-1B7E-480F-91AE-79C920E8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45662-3E8A-4F92-9271-F403A403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4435D-6D1C-47E5-AFE3-CB5C4C1E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DA58E-BE38-4FAC-B7BE-909C1641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5121E-5CF8-47CB-B08D-815D4B79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2B45F-5EFF-4173-9614-B7992AC8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5EAF3-C854-46F8-A1BB-2DB55F40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09FB5-FE5B-4EFB-B404-90CA1927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87488-F48C-4278-A067-ED3228EE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40D-857D-4640-BF25-79042B60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DFCA4-A54B-4C2B-AD5F-39D2F60F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5266B-F78D-4494-994F-B6E11E39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0A95E-7C60-40A0-9F95-2E76416D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DD67F-382C-4D15-B013-83367C5D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B1B59-51FC-4E41-8B16-E39ACC73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163E5-0D9E-480A-9549-298752B3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42C49-9EF0-4E3E-A9A1-422D6769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1A31E-6A77-46E8-B249-0E762EA0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A239B-5EEF-43A2-81AB-8B5737EA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83EC4-1977-41F1-857F-EEFB5E75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3121-61F6-40DD-90F4-6A30BDED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B8D7E-35BA-489B-B414-AEC41144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D4144-A602-49B6-A986-1E02F71A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DA389-7EEC-4F08-BBEF-5B0BF8F3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61157-C480-42E7-A80D-FB862152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84D4F-F015-495E-93D9-48970E0B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E52ED-E6D2-4284-8DA9-A1EAC681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962CD-1F1F-4FA1-9B2D-50A5878F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6CD78-1BB0-49C8-911A-74F48F57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76967-42EA-4340-B9EA-C9EC4539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55B4C-1184-4F58-837F-288ADC63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142-55C4-4EAA-BC17-2AC12518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DCC13-A657-415E-9458-E5F59840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08B11-9140-4E58-A1B3-694AFC9A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6F59F-68A2-4C43-B5D0-37514380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2E354-4540-4FA4-8481-2FAEA97C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09D9E-7350-4AB6-9F90-FEFEF5EB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E13AA-E1B2-4BFB-ADBB-20001EF3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2CC39-2FAE-4A39-948B-8D0D96AA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2A8F5-F9D1-4C11-B765-4565EA6C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18D1C-D96F-4C9B-AA85-2157B88D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4B8AC-4DA2-47ED-9BCB-2F09F2FD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854-6215-49E2-9B2F-F49A5D53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12983-D283-47ED-B008-98CF5352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76FEC-B006-497F-97ED-052AD5CF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7BB5F-AC66-444C-8974-1761BFB2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BF9D2-0CE6-4CCE-B7D2-86502D90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A9482-821B-4642-B354-704904DE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77199-8DD4-41A6-827B-263AD093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F36AE-71B1-4587-B439-E98C3436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8746-F4F2-4EA5-9425-36830541E9E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E1EB-F7D7-46A3-BEDF-EEAF95308A4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4D21-7FE0-4E66-85D3-339F19456CB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8A78-82B3-4086-9D0F-B007D1926E2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A8B1-4889-4EA5-93E4-A153E9C1968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2793-3C1D-4066-A2C5-B2445E3F4BA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E223-1964-41E7-9419-4F1D79DCA61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37A3-0A23-41B4-865D-657106C75DA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Lucida Sans Unicode"/>
              </a:rPr>
              <a:t>KEY COMPONENTS OF AN EFFECTIVE SCIENTIFIC PAPER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cientists are motivated by two thing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(1) to understand the world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(2) to get credit for it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hat determines the perceived quality of 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cientific paper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riginality and importance of ide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ffectiveness of commun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Usefulness as a source of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86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ow scientists read papers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itle and abstract are for the search engines most readers will not go beyond the abstra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igures , captions and tables must be self-contained a lot of readers go through those w/out reading the text. Some m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ook for quick explanation in text, so discussion of figures/tables in text should jump at reader (start paragraphs with “Figure X shows ”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281160" y="122400"/>
            <a:ext cx="87040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ake your figures attractive for use in presentations, both by you and others. If you wouldn’t use a figure in a presentation, then fix or delete the figure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 take-home messages of the paper should be “in your face”, I.e., in abstract, in intro, in conclusions, to make sure the “skimming reader” gets the messa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676160"/>
            <a:ext cx="82296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First paragraph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: state succinctly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roblem and the backgrou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econd paragraph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: What  you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aper/research is about, why you ar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oing it (purpose or objectives)and wha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you expect to find based upon you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knowledge of the top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Abstract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is the most important part of the paper – many readers will read just that. Focus on essential ideas, essential number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One fact/idea per sentence. Everything that you would like the casual reader to remember should be ther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Rule of thumb: In order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1- 2 sentences backgroun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1 sentence: purpose of your stud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1 – 2 sentences about your results: (summarize key findings : include key data or significant finding or trend of da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341280" y="219240"/>
            <a:ext cx="845496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Lucida Sans Unicode"/>
              </a:rPr>
              <a:t>The Conclusion</a:t>
            </a:r>
            <a:r>
              <a:rPr b="0" lang="en-US" sz="3200" spc="-1" strike="noStrike">
                <a:solidFill>
                  <a:srgbClr val="ff0000"/>
                </a:solidFill>
                <a:latin typeface="Lucida Sans Unicode"/>
              </a:rPr>
              <a:t>: 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Gives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the take-home messages of your paper in a way that’s not as severely limited in space as the Abstract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Readers who want to go beyond the Abstract may skim the paper and then zoom in on the Conclusions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irst paragraph: quick summary of what you did and why you did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ccessive paragraph extracting the take-home messages/findings and implications in the real world.  May make suggestions for further areas of stud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21:27:28Z</dcterms:created>
  <dc:creator>Teri Osborne</dc:creator>
  <dc:description/>
  <dc:language>en-US</dc:language>
  <cp:lastModifiedBy> </cp:lastModifiedBy>
  <dcterms:modified xsi:type="dcterms:W3CDTF">2012-02-14T15:47:15Z</dcterms:modified>
  <cp:revision>6</cp:revision>
  <dc:subject/>
  <dc:title>HOW TO WRITE AN EFFECTIVE SCIENTIFIC PAPER</dc:title>
</cp:coreProperties>
</file>